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6646D-8B50-4C14-B6BC-67DCDEA7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94F78-C3D9-4479-81D9-704BDE2B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BEA58-9277-4824-9774-A9584B60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FA1D0-AC1F-4E03-A314-DBF8BB1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F7088-2F58-43E1-A759-57DBE4C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A8C45-ABD6-47B9-BB7C-77595782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45C8E-7ADB-4399-85C7-BFF70049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6EC6B-E527-4D75-8AE0-96CECD1B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E97D-D9F0-470D-A404-4C4C642A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410B5-04C2-480C-B0CF-72585995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355EC-9E23-46B3-BB61-FF47E223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83A9C-1A6E-4517-A65F-A018EDAE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9AAD6-4186-4ED4-8C89-24BBFB9F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7E5E4-E4BC-404B-B590-2921410B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4C1B5-DE1A-4FDA-A3D4-022FAA89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D3134-F822-442C-87AD-407D4BDF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5E80E-5F45-4E95-A36D-FFBF390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188EA-28BE-4365-BCF1-C0E5F5B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A880E-A15E-48DB-AC1A-FB6C67B3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0A70E-E4C7-4A03-A2B0-7754DF4D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3F002-56C7-4CF0-95C3-3FB5D95D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9A36F-4AB6-49CC-BD50-4C83E513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5CF42-F7EE-4E36-AFE1-FC0ACB52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7E377-4DA1-4D1A-B0CE-52D7E43C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F79C4-BDE2-43FA-B8CB-A8F77F9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86172-F715-46B0-9974-27CC2DE4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2E42B-9156-46C9-8563-15A961F6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EF4D1-9847-4BFF-8814-EC0B42C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359D7-42EE-471B-A04C-78C117C3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BDB22-E9CE-4F30-8560-7EE0B021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F1A-3529-4512-8B34-EBB32AC0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781EF-EF38-4643-A6D9-46666FA2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B4C7B-9604-4ACB-8DEB-D80DD9A5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3672C-009A-4106-B7C8-525EA5D0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1969D-8F14-42BB-BEAF-3874DB43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71851-B355-4BBE-8C82-FB6ADF4B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D823E-B66E-431A-8301-E742FE50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3B60D-D62E-4755-882B-001DA19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6387A-030B-4D2B-8134-2FB9ACBB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11950-8ADB-4175-8EB7-93C0B186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8D117-5308-42F5-B7B2-31795229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833-7000-4454-86FA-E16B53A6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27D3F-C659-4CE6-AAAC-92971C1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FE006-752B-414C-B6AA-EB82AFC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2C957-2ECB-47D3-8A34-F38EC541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A5A4D-F916-4D92-B0E4-7F2BA488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B0FEB-7E99-4C24-8EE5-01E27BE7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94CAE-8399-4072-80C6-2404C764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FE3E9-E920-4458-A66D-3EE70146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80665-F735-4D29-9182-53472E1F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FB976-2B78-462C-BF41-BD06944D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16C6F-73C5-40F5-9308-EE54FF88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333-31A5-4FDF-A2AD-61D6AADC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35B1C-3015-4FF7-85EE-93A3BD6E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FB5FF-4E7A-49DA-8F6C-1A4C64AE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9B1B4-403D-40FA-896F-7514E3D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DF8B1-167D-402A-B1BE-0CEF492A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726BE-F627-458B-9620-243088FD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089F7-1A36-4670-AE17-606951FE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56B86-1127-49E3-95E4-F1BDAA47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EAB62-E628-4B09-89A2-1DB2B4F1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DA372-D04D-4D38-BF59-73CEB8B7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70AAF-B5E1-46CA-9A91-B45415FA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3F2-D7FE-4A79-9A1C-CA90C7E7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92905-3E5D-44CE-A84D-20E35DD6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E718F-72AA-4485-B665-55BAC3C2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72CB5-A429-4E73-9DA4-17349173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2BB12-3EFE-420F-B622-BE2E6F0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946D1-3C8C-4A9F-8F89-0FA23758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EB212-E416-4197-B379-0850161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717C4-CFB3-4612-A381-D2FDF5FE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10D5A-BBCA-4006-AD8E-259407C1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B29F2-CBC6-41FE-9F35-21BD80B7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00B15-8823-48CE-A537-E744D32D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0D3-F8DB-47C7-9AC8-F1E2BBE2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ECF72-4470-45F9-A6BD-1DAD7B8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C8F9F-4EF4-4503-AADA-EA8E5A1B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16C19-00E5-4400-AA79-980573E5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10522-1707-484F-B1FF-C4F61E65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0A9A3-5164-45A9-BEAF-A3C74409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BEE39-8687-48E7-A1A6-41F0EA4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D3985-44C8-41BD-99EC-09E22D2B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19B47-0382-489A-8140-1E2C4884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6E62F-F172-4050-8CA4-3D642891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52856-A327-47F9-A812-5288775B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1BE-5894-4937-9D36-9D8F93D7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82BEE-86DD-4BFE-85DB-3BF5A9C3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A617C-4A63-404D-85C8-DAE91C2A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E666D-D357-468A-9828-84FE3F12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C529F-1989-4789-910C-2DEF0295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E9481-382E-492F-8F9A-6835B2B6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86663-3363-4C02-BD98-91FF0D39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BD157-AE2A-4300-BA42-C76AFBFA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D5F23-2466-462E-915B-DDA330E0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8B3E2-6F03-40DD-AE62-6EB2B49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F9714-A4A0-48F3-A4E3-3ACF290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DA8-5265-4696-B236-CC4AC86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89827-72E6-4F3E-BF03-A3F83711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A86C1-B2C4-4AA6-8841-DA837631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32CE2-4104-4105-9F5A-59BBB236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D12CD-14EA-4BAA-A3DC-CDA9057D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35A67-2607-4637-AAF0-F53D3B7A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32F25-4370-4C79-82C8-309647CC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B46CF-7E59-4D89-83F9-AEC25F18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BAFD7-9E45-4640-A0BB-4F87715C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564E4-8959-47A5-BB9F-2B120BEB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768F2-E650-4C0B-A22E-2D04A5A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163-43ED-4A18-BF78-D3028329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E2A43-A16E-4E8D-969A-E466EA6F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EC389-E851-427F-A0BD-B6A1E4D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21457-9935-4746-9CFB-E4D79891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4CB39-2568-4433-AC36-72BA06F6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7AD0A-4BA7-4DC5-B566-C8B2B2C3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6BCEF-0DDA-45FC-A63C-72F5F15C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BA11E-9F81-4F32-AA0E-F515BF55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D0FD3-CBF9-4523-9AF4-52992A0A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12A7C-888E-44E4-80AD-564D599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C6EC7B-4C73-465E-A894-EF0756C4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187-E12A-431C-98C7-E262E1B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359B8-5706-4E60-ACD1-57565B6F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7056F-F62C-465A-8A76-E6C45C0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DC0E3-1F5E-4F4D-826A-83E51852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9680F-FB36-4F26-AF1F-C1EFA0F3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A4CE4-0A31-4443-9007-98A7E1D8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594C8C-DFED-40FB-B721-2CA80D49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EEB09-A02D-48DA-921C-21AD617B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EB48A-A72D-4299-8271-ADCCEB81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C4B44-AF51-4E9E-8C7D-9602FA2A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FDA34-F8F8-4932-B87D-ED1D6244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A36-124D-41C9-8316-0B9EF557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6BFFE-884C-421F-A9E9-0DBDEAAD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C7E49-2EBD-4ED1-8791-DB9EDED6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7C041-F832-4FA0-B258-81920F71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2C02E-6606-4B8E-8EF0-C13FC69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35C08-C626-48F1-BEAC-68D229B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D71B3-AAD5-45F0-B221-94EEC1EB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7A953-BE91-4166-9DC7-2D64ACC6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7F2812-A5C2-4FE3-989E-5965481D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E39B1-EAED-4515-8169-8B8726EA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9F9C8-53F0-4356-AFD6-C455C240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C4B-C1C8-48C2-A59B-E878D55A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CDD2A-E385-4D07-95A9-20F2369B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5287A-C0A0-46BC-BB24-B7EE9088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93F52-E410-417C-B96F-27153BED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EEA0C-C0E1-4685-BA29-9C6B4507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E37E1-04FD-4420-9084-E49DA728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9CC558-2855-405A-9F5C-29757FC4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6D137-BCB9-4091-88FD-756F3A1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AB229-4A02-4DC7-9CB0-66ED403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8B974-BEAB-4E8B-9B13-9B3B492A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861AA-DAE7-44FF-B473-68567E48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F6C-BFD7-41D0-B816-8BADDF19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F8953-DEDE-4487-968B-6A25A613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4073BA-902B-481C-88BC-3E9D757F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FA09C-187E-4967-9761-4A423CF4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679284-3DB5-4712-B100-24C1CD27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EDFC3-6F15-4B7D-A482-C60C2B37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84B3A3-702B-4C51-AF2F-2D6F79EF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4EECA8-2D68-46FC-A8DA-779C72C4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8AA9B2-05FA-4B1A-BDAF-09E6437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F5E52-5335-4171-8C2F-FDE0DC4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CA018-0663-4CDD-B675-54BF2914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5ADE-CF42-4E3D-9AC7-7645AD15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35A32-6A31-4551-A30A-1936F086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74E83-0B1B-4882-869D-CEC99E1D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2EA50D-C94B-4648-AB4B-FD3ADD8C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671B1-2D28-490A-9960-AE887804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0C41C-10A5-41B5-98FB-C7F8D1FB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F34AA9-C9CB-4D69-8DCE-846EA5F3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C3BBAD-387A-4DFC-9985-35D78D7B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57D3C5-D874-427D-95CD-B97E623A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595F8E-C79C-48BD-A785-86144564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6F1DB8-A923-4DDF-892C-C162161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939F-9303-4827-97B4-FBB171F7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8D4EF2-44DE-4E0E-AB92-B6B480A4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5AAFD-AFE4-43EB-9225-4B9D6525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161908-989E-471C-B233-C46977A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5C8DC-A0CC-4D01-A6E3-64F22380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1B667-BB6F-4688-8230-AFE7C1A7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A1CBAD-F47F-4B8A-A8EE-72C9F537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22411-9EFE-42DE-87C3-A2619137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5B5956-16CE-4272-B857-B9C69CED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6C6E85-35C1-4C38-B4DB-CFBA0354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2D7FBC-65CB-43A3-81F1-8F35AC88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C3D7-CDD9-4BF4-BBBC-C97A3E97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5BF7A6-D562-4BFF-A9EA-CBF877CD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E76D98-4EDB-45FE-88DC-6DEFDCE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9B6A2E-6B00-4607-86D5-70411530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1FD3EB-D864-4394-93EA-519E5061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58DAF-672E-4266-B4A8-B1DD3C2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4E2D6E-4566-4C70-9C59-FA720662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9B44A7-01B9-4831-8898-A3C5F8A4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578972-69AC-4715-A3B5-6F2C2B9D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F1EE72-1D6E-4395-B020-D07EE29E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ACA8F-7E92-4963-A9B5-9E411FA1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7E30-8BC1-4DF3-BDE9-970E90A4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1BD12E-F81E-49E6-9FB0-1560E452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776AC1-42CA-409E-A7CD-DDA6E4D8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389CE2-3117-4888-8C1C-D2B67F6C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B97A8F-9517-4E57-B016-B1C03AD2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BA357-C566-4721-826C-65101C57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EFB26F-35EC-4AEE-AF81-F160D1EE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A5AAFD-AF95-49AE-941F-6C5D438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713761-2381-4B73-A6CA-35E1745F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274FC0-7B01-4CE3-A4D9-BE641D2E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E075-5C07-4A4A-A994-DC7F75F2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36C3-B703-48ED-BBCF-4C6E9167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C18D-7F94-4F89-927C-D12E209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3172-4A94-4570-BFA2-319A5DC7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D7AA-B935-4270-9323-64C964D9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C632-063B-471C-B614-6EC513AC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6784-E1B3-4FE5-9B5E-6D55E787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7583-60F6-48FC-BDB7-C42B0FC4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F39D-6FFE-4337-9DAE-69BEA8C9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8D04-0913-4FF5-BDB1-B9883E45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C3DE-6C59-43D2-BFAB-C381578F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4863-ED3F-4FD8-8393-ACE705B1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A84A-9058-4228-B68C-C8A7DD36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79665-AD2A-48D6-AB61-AD9192E3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0B15-0118-45D2-B598-082B63D2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01EE9-4BAD-4723-9128-3AB1A44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F39F-8696-4C08-873D-7B4734A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99CB-C28E-4777-9119-8CF3BDB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74DC7-F365-4715-BB07-B2148AD5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193D-32EB-409C-B379-F2BCFAA6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A39D-E945-4BD5-A9FE-32C541A2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DCC7-8CB9-44E0-8318-402186B2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7FC3-22CE-4631-B9A7-7B8352D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AC4F-DE13-4A43-9E53-B64384FC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46F95-911E-4D34-AB00-BBB88723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414D-D19A-415E-82D6-A47793A3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9652-E163-4D25-A5BC-AAA06E56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43F33-C35C-4338-BF74-0328C32A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04CC-2329-49A7-83D1-328EBE1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A300-96EA-43F7-8759-2855FCC6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9A0E-EB5A-453E-BEE4-47737791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D19C-320C-4B7C-827E-84FDA4FF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A191D-5633-4460-89B4-5D62A37F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6AE90-D7C3-434C-91CD-BBA06646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89A6-9036-45E4-83B5-CF22A9B1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4B5C9-44C8-4734-934D-83381D8A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20F67-2B62-4546-A15D-70429FC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4C010-D780-448C-BCD4-374DC6EC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153C-602B-4118-B3CE-66B73A5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5C68-EFAF-45B7-A5B9-6FB5CD71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B10D7-8837-4B23-8901-6555C52F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66511-AC5F-48A5-B18E-153E1999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83DEE-103E-47A8-8273-78BD35B4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9F123-F0C6-4B64-85E9-08C65F3A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EDC0-D241-4A2B-A26A-A780C9E7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997B4-CB25-4928-A20D-E61165B4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D434B-CC4E-4F7C-9A3F-8C7FBD6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86CD-380B-4995-A9C3-CB1B52C3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EF8E3-1809-4880-9AFC-9CCB1D2A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69B00-AC47-47A6-96C8-E771259A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CFEA3-1C12-404A-9F7E-DF33B5D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2FFE3-C60D-48A1-AA44-2E8836D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DB881-24F1-43F6-90D1-1BAE0AC4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0AA87-AC7A-4D9D-AB4F-86A473DC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40A17-15B2-48BC-A144-E887F458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55CE-3C58-40FD-9E2C-8F53A143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F696-F168-4D7B-BA7F-8C4AE4AD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5EE37-58A1-491A-B65F-3DF553A5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64014-10F9-4BB8-AB05-EFCEFECC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FE638-38F8-4B69-934F-A1E2B385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BB71B-D236-4F0F-8CD2-644D8516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82CCC-AC13-48E4-B73C-DC4CEBFF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6B44F-DAD4-42AD-9ADC-915AFF4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59B8D-EAA7-483A-8EFD-AC02079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74402-ED4B-42F3-8CAB-F4F276C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7D031-B91A-4AA3-9C2F-01CA8545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B71E9-5723-4D08-A8A8-A34B9A5E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6FB94-29C9-49C9-9BCE-6FA28219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C3BF8-79C9-4B5A-8773-C974E614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2E556-9F1A-43D3-9038-FEEF430E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B5728-09FF-46F6-BD46-6F6740EE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115E-A942-457F-8FAD-682DBB2FA7D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4F49-0FBB-4BD5-A089-A5A70FF539F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DA29-2C80-40B9-ACB2-9EA40A0CAE1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F525-A48E-4476-9A73-8A61748365B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41FC-8235-4BD6-AC3D-2EF0E2F71B3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71D6-7D27-4AEC-974A-37A8D5C643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33BF-9C0A-413E-879C-DD5D9E43C0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50BD-2F63-4BE6-A1E1-6990A5A498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4C56-CF8C-4DFF-A797-6AA44A5020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6B49-39E3-4B3C-874C-9850B1C5AD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CB41-FD96-403D-B367-4A1F8970216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2FA-859A-4E90-B2EC-3140FC8E87D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4184-17EA-41A3-90B9-0B3764AA23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E2DB-72C8-457A-BB16-42F6398540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75F-825F-4D47-AC95-1E5451BC44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3634-7F8E-4A79-B663-A1D4601DE1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1AA0-CFB4-4582-A168-1033975793D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615-ED0E-40B3-A58E-3E98ACB249B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45D0-6812-436E-B71F-D6CFF7135C8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8B40-2DC9-4C95-9E26-83215FA8C22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86DF-94C6-4289-B202-DD4B020AA71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A7AA-588B-4347-B259-A15F809CB6B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632B-E2B3-4E19-91DA-B702483C964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2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5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6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9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0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标题 1"/>
          <p:cNvSpPr/>
          <p:nvPr/>
        </p:nvSpPr>
        <p:spPr>
          <a:xfrm>
            <a:off x="50004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正比例的意义</a:t>
            </a:r>
            <a:endParaRPr b="1" lang="en-US" sz="5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067280" y="1574640"/>
            <a:ext cx="46512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3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啤酒生产中的数学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比例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矩形 10"/>
          <p:cNvSpPr/>
          <p:nvPr/>
        </p:nvSpPr>
        <p:spPr>
          <a:xfrm>
            <a:off x="1008000" y="5697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根据图像把表格填完整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47" name="Picture 5" descr="xjt20-2"/>
          <p:cNvPicPr/>
          <p:nvPr/>
        </p:nvPicPr>
        <p:blipFill>
          <a:blip r:embed="rId1"/>
          <a:stretch/>
        </p:blipFill>
        <p:spPr>
          <a:xfrm>
            <a:off x="1736640" y="1403280"/>
            <a:ext cx="5670720" cy="3781440"/>
          </a:xfrm>
          <a:prstGeom prst="rect">
            <a:avLst/>
          </a:prstGeom>
          <a:ln w="0">
            <a:noFill/>
          </a:ln>
        </p:spPr>
      </p:pic>
      <p:sp>
        <p:nvSpPr>
          <p:cNvPr id="1048" name="直接连接符 2"/>
          <p:cNvSpPr/>
          <p:nvPr/>
        </p:nvSpPr>
        <p:spPr>
          <a:xfrm flipV="1">
            <a:off x="2340000" y="2060280"/>
            <a:ext cx="2592360" cy="25239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矩形 10"/>
          <p:cNvSpPr/>
          <p:nvPr/>
        </p:nvSpPr>
        <p:spPr>
          <a:xfrm>
            <a:off x="954000" y="1268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在同一时间、同一地点测得树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请你估计一下，影长大约是多少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1692360" y="29224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影长大约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矩形 1"/>
          <p:cNvSpPr/>
          <p:nvPr/>
        </p:nvSpPr>
        <p:spPr>
          <a:xfrm>
            <a:off x="826920" y="1146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下表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家庭住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份的用电情况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2" name="矩形 2"/>
          <p:cNvSpPr/>
          <p:nvPr/>
        </p:nvSpPr>
        <p:spPr>
          <a:xfrm>
            <a:off x="1584360" y="46893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电费随着用电量的变化而变化，每度电的价格没有改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53" name="Picture 4" descr=""/>
          <p:cNvPicPr/>
          <p:nvPr/>
        </p:nvPicPr>
        <p:blipFill>
          <a:blip r:embed="rId1"/>
          <a:stretch/>
        </p:blipFill>
        <p:spPr>
          <a:xfrm>
            <a:off x="1682640" y="1722600"/>
            <a:ext cx="5778720" cy="2065320"/>
          </a:xfrm>
          <a:prstGeom prst="rect">
            <a:avLst/>
          </a:prstGeom>
          <a:ln w="0">
            <a:noFill/>
          </a:ln>
        </p:spPr>
      </p:pic>
      <p:sp>
        <p:nvSpPr>
          <p:cNvPr id="1054" name="矩形 3"/>
          <p:cNvSpPr/>
          <p:nvPr/>
        </p:nvSpPr>
        <p:spPr>
          <a:xfrm>
            <a:off x="969840" y="3681360"/>
            <a:ext cx="58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表中的两种量是怎样变化的？在变化的过程中什么没有改变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4932360" y="31510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5796000" y="234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7" name="矩形 7"/>
          <p:cNvSpPr/>
          <p:nvPr/>
        </p:nvSpPr>
        <p:spPr>
          <a:xfrm>
            <a:off x="6642000" y="31510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969840" y="5661000"/>
            <a:ext cx="58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根据你发现的规律，把表格填写完整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矩形 1"/>
          <p:cNvSpPr/>
          <p:nvPr/>
        </p:nvSpPr>
        <p:spPr>
          <a:xfrm>
            <a:off x="960480" y="112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电量和相对应的电费成正比例吗？说出你的理由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0" name="矩形 2"/>
          <p:cNvSpPr/>
          <p:nvPr/>
        </p:nvSpPr>
        <p:spPr>
          <a:xfrm>
            <a:off x="1171440" y="4149720"/>
            <a:ext cx="70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÷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÷0.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马浩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份用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度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1714680" y="1808280"/>
            <a:ext cx="64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正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电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电量＝每度电的价格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2" name="矩形 4"/>
          <p:cNvSpPr/>
          <p:nvPr/>
        </p:nvSpPr>
        <p:spPr>
          <a:xfrm>
            <a:off x="974880" y="3068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马浩家比李超家多交电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你知道马浩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份用电多少度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64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65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66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67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8" name="矩形 19"/>
          <p:cNvSpPr/>
          <p:nvPr/>
        </p:nvSpPr>
        <p:spPr>
          <a:xfrm>
            <a:off x="963720" y="1233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王师傅锯木头做沙发，所锯木头段数和所用时间记录如下，请把表填完整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9" name="矩形 4"/>
          <p:cNvSpPr/>
          <p:nvPr/>
        </p:nvSpPr>
        <p:spPr>
          <a:xfrm>
            <a:off x="4829040" y="3110040"/>
            <a:ext cx="6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1763640" y="3213000"/>
          <a:ext cx="5040360" cy="1440000"/>
        </p:xfrm>
        <a:graphic>
          <a:graphicData uri="http://schemas.openxmlformats.org/drawingml/2006/table">
            <a:tbl>
              <a:tblPr/>
              <a:tblGrid>
                <a:gridCol w="1797120"/>
                <a:gridCol w="687240"/>
                <a:gridCol w="611280"/>
                <a:gridCol w="612720"/>
                <a:gridCol w="647640"/>
                <a:gridCol w="684360"/>
              </a:tblGrid>
              <a:tr h="577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段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钟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1" name="矩形 10"/>
          <p:cNvSpPr/>
          <p:nvPr/>
        </p:nvSpPr>
        <p:spPr>
          <a:xfrm>
            <a:off x="6156360" y="31431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2" name="矩形 11"/>
          <p:cNvSpPr/>
          <p:nvPr/>
        </p:nvSpPr>
        <p:spPr>
          <a:xfrm>
            <a:off x="4179960" y="3897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3" name="矩形 12"/>
          <p:cNvSpPr/>
          <p:nvPr/>
        </p:nvSpPr>
        <p:spPr>
          <a:xfrm>
            <a:off x="5467320" y="3897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判断两种量是否成正比例关系并说明理由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灵活运用正比例关系填表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画出正比例图像并回答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生活中有关正比例关系的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73080" y="113832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判断下面每题中的两种量是不是成正比例，并说明理由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三角形的底一定，三角形的面积和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12"/>
          <p:cNvSpPr/>
          <p:nvPr/>
        </p:nvSpPr>
        <p:spPr>
          <a:xfrm>
            <a:off x="1641600" y="4724280"/>
            <a:ext cx="65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正比例。因为正方体的表面积是底面积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倍，它们的比值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所以正方体的表面积与底面积成正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05" name="组合 2"/>
          <p:cNvGrpSpPr/>
          <p:nvPr/>
        </p:nvGrpSpPr>
        <p:grpSpPr>
          <a:xfrm>
            <a:off x="1641600" y="2744640"/>
            <a:ext cx="6432480" cy="1182960"/>
            <a:chOff x="1641600" y="2744640"/>
            <a:chExt cx="6432480" cy="1182960"/>
          </a:xfrm>
        </p:grpSpPr>
        <p:sp>
          <p:nvSpPr>
            <p:cNvPr id="1006" name="矩形 13"/>
            <p:cNvSpPr/>
            <p:nvPr/>
          </p:nvSpPr>
          <p:spPr>
            <a:xfrm>
              <a:off x="1641600" y="2744640"/>
              <a:ext cx="64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成正比例。因为三角形的面积与高的比值＝底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×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，而底一定，所以比值一定，所以三角形的面积和高成正比例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07" name="对象 1" descr=""/>
            <p:cNvPicPr/>
            <p:nvPr/>
          </p:nvPicPr>
          <p:blipFill>
            <a:blip r:embed="rId2"/>
            <a:stretch/>
          </p:blipFill>
          <p:spPr>
            <a:xfrm>
              <a:off x="2118960" y="3315600"/>
              <a:ext cx="229320" cy="61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8" name="矩形 1"/>
          <p:cNvSpPr/>
          <p:nvPr/>
        </p:nvSpPr>
        <p:spPr>
          <a:xfrm>
            <a:off x="2957400" y="4290840"/>
            <a:ext cx="7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正方体的表面积与底面积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矩形 5"/>
          <p:cNvSpPr/>
          <p:nvPr/>
        </p:nvSpPr>
        <p:spPr>
          <a:xfrm>
            <a:off x="1504800" y="2168640"/>
            <a:ext cx="66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正比例。因为总钱数与订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读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本数的比值就是单价，单价一定，所以订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读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本数与总钱数成正比例。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1"/>
          <p:cNvSpPr/>
          <p:nvPr/>
        </p:nvSpPr>
        <p:spPr>
          <a:xfrm>
            <a:off x="961920" y="1376280"/>
            <a:ext cx="652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订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本数与总钱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本书的总页数一定，每天看的页数和看的天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1" name="矩形 7"/>
          <p:cNvSpPr/>
          <p:nvPr/>
        </p:nvSpPr>
        <p:spPr>
          <a:xfrm>
            <a:off x="1693800" y="530064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成正比例。因为它们的比值不一定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5"/>
          <p:cNvSpPr/>
          <p:nvPr/>
        </p:nvSpPr>
        <p:spPr>
          <a:xfrm>
            <a:off x="1700280" y="2313000"/>
            <a:ext cx="63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成正比例。因为它们的比值不一定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3" name="矩形 1"/>
          <p:cNvSpPr/>
          <p:nvPr/>
        </p:nvSpPr>
        <p:spPr>
          <a:xfrm>
            <a:off x="961920" y="1305000"/>
            <a:ext cx="72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铺地面积一定，正方形地板砖的边长和所需块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矩形 7"/>
          <p:cNvSpPr/>
          <p:nvPr/>
        </p:nvSpPr>
        <p:spPr>
          <a:xfrm>
            <a:off x="1687680" y="4365720"/>
            <a:ext cx="64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正比例。因为圆的周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径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所以圆的周长与直径成正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5" name="矩形 2"/>
          <p:cNvSpPr/>
          <p:nvPr/>
        </p:nvSpPr>
        <p:spPr>
          <a:xfrm>
            <a:off x="2170080" y="3538440"/>
            <a:ext cx="7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的周长和直径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Box 1"/>
          <p:cNvSpPr/>
          <p:nvPr/>
        </p:nvSpPr>
        <p:spPr>
          <a:xfrm>
            <a:off x="880920" y="1268280"/>
            <a:ext cx="73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填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正比例，请将下表填写完整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7" name="矩形 3"/>
          <p:cNvSpPr/>
          <p:nvPr/>
        </p:nvSpPr>
        <p:spPr>
          <a:xfrm>
            <a:off x="2916360" y="35766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4"/>
          <p:cNvSpPr/>
          <p:nvPr/>
        </p:nvSpPr>
        <p:spPr>
          <a:xfrm>
            <a:off x="3832200" y="29224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9" name="Picture 9" descr=""/>
          <p:cNvPicPr/>
          <p:nvPr/>
        </p:nvPicPr>
        <p:blipFill>
          <a:blip r:embed="rId1"/>
          <a:stretch/>
        </p:blipFill>
        <p:spPr>
          <a:xfrm>
            <a:off x="1204920" y="2747880"/>
            <a:ext cx="6967440" cy="1657440"/>
          </a:xfrm>
          <a:prstGeom prst="rect">
            <a:avLst/>
          </a:prstGeom>
          <a:ln w="0">
            <a:noFill/>
          </a:ln>
        </p:spPr>
      </p:pic>
      <p:sp>
        <p:nvSpPr>
          <p:cNvPr id="1020" name="矩形 9"/>
          <p:cNvSpPr/>
          <p:nvPr/>
        </p:nvSpPr>
        <p:spPr>
          <a:xfrm>
            <a:off x="4613400" y="35766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1" name="矩形 10"/>
          <p:cNvSpPr/>
          <p:nvPr/>
        </p:nvSpPr>
        <p:spPr>
          <a:xfrm>
            <a:off x="5510160" y="29224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11"/>
          <p:cNvSpPr/>
          <p:nvPr/>
        </p:nvSpPr>
        <p:spPr>
          <a:xfrm>
            <a:off x="6408720" y="360504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3" name="矩形 12"/>
          <p:cNvSpPr/>
          <p:nvPr/>
        </p:nvSpPr>
        <p:spPr>
          <a:xfrm>
            <a:off x="7201080" y="29354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Box 1"/>
          <p:cNvSpPr/>
          <p:nvPr/>
        </p:nvSpPr>
        <p:spPr>
          <a:xfrm>
            <a:off x="792000" y="1268280"/>
            <a:ext cx="73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两个变量，并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请将下表填写完整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3492360" y="3213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2679840" y="5192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7" name="对象 2" descr=""/>
          <p:cNvPicPr/>
          <p:nvPr/>
        </p:nvPicPr>
        <p:blipFill>
          <a:blip r:embed="rId1"/>
          <a:stretch/>
        </p:blipFill>
        <p:spPr>
          <a:xfrm>
            <a:off x="5184720" y="1839960"/>
            <a:ext cx="247680" cy="6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8" name=""/>
          <p:cNvGraphicFramePr/>
          <p:nvPr/>
        </p:nvGraphicFramePr>
        <p:xfrm>
          <a:off x="1727280" y="3240000"/>
          <a:ext cx="6265800" cy="1593720"/>
        </p:xfrm>
        <a:graphic>
          <a:graphicData uri="http://schemas.openxmlformats.org/drawingml/2006/table">
            <a:tbl>
              <a:tblPr/>
              <a:tblGrid>
                <a:gridCol w="793800"/>
                <a:gridCol w="934920"/>
                <a:gridCol w="839880"/>
                <a:gridCol w="701640"/>
                <a:gridCol w="1027080"/>
                <a:gridCol w="1027080"/>
                <a:gridCol w="941400"/>
              </a:tblGrid>
              <a:tr h="61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9" name="矩形 6"/>
          <p:cNvSpPr/>
          <p:nvPr/>
        </p:nvSpPr>
        <p:spPr>
          <a:xfrm>
            <a:off x="1850400" y="5157720"/>
            <a:ext cx="23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0" name="矩形 7"/>
          <p:cNvSpPr/>
          <p:nvPr/>
        </p:nvSpPr>
        <p:spPr>
          <a:xfrm>
            <a:off x="5148360" y="3213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1" name="矩形 8"/>
          <p:cNvSpPr/>
          <p:nvPr/>
        </p:nvSpPr>
        <p:spPr>
          <a:xfrm>
            <a:off x="7236000" y="3213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2" name="矩形 9"/>
          <p:cNvSpPr/>
          <p:nvPr/>
        </p:nvSpPr>
        <p:spPr>
          <a:xfrm>
            <a:off x="2679840" y="4005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3" name="矩形 10"/>
          <p:cNvSpPr/>
          <p:nvPr/>
        </p:nvSpPr>
        <p:spPr>
          <a:xfrm>
            <a:off x="4356000" y="40086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4" name="矩形 11"/>
          <p:cNvSpPr/>
          <p:nvPr/>
        </p:nvSpPr>
        <p:spPr>
          <a:xfrm>
            <a:off x="6192720" y="400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TextBox 1"/>
          <p:cNvSpPr/>
          <p:nvPr/>
        </p:nvSpPr>
        <p:spPr>
          <a:xfrm>
            <a:off x="971640" y="126828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，国内油价再次下调，北京某加油站显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号汽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，请完成下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3492360" y="30337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6300720" y="30337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1692360" y="3033720"/>
          <a:ext cx="5472000" cy="1368360"/>
        </p:xfrm>
        <a:graphic>
          <a:graphicData uri="http://schemas.openxmlformats.org/drawingml/2006/table">
            <a:tbl>
              <a:tblPr/>
              <a:tblGrid>
                <a:gridCol w="1622520"/>
                <a:gridCol w="974520"/>
                <a:gridCol w="858960"/>
                <a:gridCol w="1008000"/>
                <a:gridCol w="1008000"/>
              </a:tblGrid>
              <a:tr h="666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总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6.4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6.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9" name="矩形 6"/>
          <p:cNvSpPr/>
          <p:nvPr/>
        </p:nvSpPr>
        <p:spPr>
          <a:xfrm>
            <a:off x="4284720" y="3751200"/>
            <a:ext cx="9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3.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0" name="矩形 7"/>
          <p:cNvSpPr/>
          <p:nvPr/>
        </p:nvSpPr>
        <p:spPr>
          <a:xfrm>
            <a:off x="5186520" y="37512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0.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矩形 10"/>
          <p:cNvSpPr/>
          <p:nvPr/>
        </p:nvSpPr>
        <p:spPr>
          <a:xfrm>
            <a:off x="954000" y="1268280"/>
            <a:ext cx="72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下面是同一时间、同一地点测得的树高和对应的影长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下图中描出表示树高和对应影长的点，然后把它们连起来，图像成一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5508720" y="45925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线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2376360" y="2673360"/>
          <a:ext cx="5003640" cy="1349280"/>
        </p:xfrm>
        <a:graphic>
          <a:graphicData uri="http://schemas.openxmlformats.org/drawingml/2006/table">
            <a:tbl>
              <a:tblPr/>
              <a:tblGrid>
                <a:gridCol w="1411200"/>
                <a:gridCol w="747720"/>
                <a:gridCol w="720720"/>
                <a:gridCol w="720720"/>
                <a:gridCol w="719280"/>
                <a:gridCol w="684000"/>
              </a:tblGrid>
              <a:tr h="674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树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m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影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m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4" name="矩形 5"/>
          <p:cNvSpPr/>
          <p:nvPr/>
        </p:nvSpPr>
        <p:spPr>
          <a:xfrm>
            <a:off x="5975280" y="33577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6732720" y="267012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8:49Z</dcterms:modified>
  <cp:revision>1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